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D3A8-7440-47D9-9C1F-4290D85C3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3B19-7342-4DA1-8D7B-5ECCEFF2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7486-411B-4937-9CFE-1F7B117A6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D8F3-A824-4FF5-8C17-2F72630B2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22E1-A238-4ABF-8678-C2AEA4F5D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3681-DA07-4853-95C8-064E29AC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DD69-2EF7-448F-9124-9AB3D845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F42C-09A6-4326-BF9F-4ACDFDB4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5E4C-3F1B-4DBC-8D4C-18407345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A2BC-FB60-4373-8B54-B6633934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F29B-E155-42DB-B1CF-1380B0E8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A299-DF99-498E-B884-C6180C37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DF1B-F649-4337-90AE-EF369731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977A-51A0-49B7-9025-0A0785B0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1BE8-64A4-47D0-9328-B2C6A965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F057-C154-40D4-9BC4-8B86C6177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C97E-7444-4A05-A2E3-8B6DE7A04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BA8E-616D-418A-99D8-8093B872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2D44-3939-4540-AC0D-1937C49A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DDCD-85D0-47DD-BB49-1099A96A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F105-FD63-4354-83D3-E083EDB6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0E07-F515-4082-924B-D0C29CAC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9B1C-4170-4B40-9B0C-A1441530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5DC5-2FFF-4C67-B699-54BF50D8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38F1-31E9-4BA8-8822-EE33F77C58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1B69-FC40-4296-83D7-58F9DB0E39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Chiller"/>
              </a:rPr>
              <a:t>TP-CASTT for ‘ghost child’</a:t>
            </a: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Becka O’Neil and McKayla Bea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Chiller"/>
              </a:rPr>
              <a:t>T- Title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iller"/>
              </a:rPr>
              <a:t>We infer that the poem ‘ghost child’ would be about a child who has died from AIDS or is dying. The child may be unbor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Chiller"/>
              </a:rPr>
              <a:t>P-Paraphrase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It’s about a child, screaming for mercy, wondering why God has forsaken her. In ‘ghost child’, the child wants to know if the red ribbon of AIDS can be lifted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Chiller"/>
              </a:rPr>
              <a:t>C-Connotation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Repetition- The speaker repeats “am I still your child?” and “shout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Simile- The speaker uses the simile “to spring once again like rivers in summer.” Which we interpret to mean to feel al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Stanzas- The stanzas end in ways that add definition and feeling to the po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Tone- The tone is somber to the point of seeming creep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Symbolism- Instead of saying AIDS, they mentioned the red ribbon, which is the symbol for AIDS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Chiller"/>
              </a:rPr>
              <a:t>A- Attitude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iller"/>
              </a:rPr>
              <a:t>The attitude of the poem and the speaker is desperate and depresses the read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iller"/>
              </a:rPr>
              <a:t>We think that the poet wants to point out the innocent that are hurting because of AID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iller"/>
              </a:rPr>
              <a:t>Things like ‘Everyday I think it is the last’, ‘I shout; shout; and scream for my blood’ and ‘God! God! Why forsake me; am I still your child?’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Chiller"/>
              </a:rPr>
              <a:t>S-Shift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We think that it shifts from saddening to desperation and anger, finally concluding with a feeling of why me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Chiller"/>
              </a:rPr>
              <a:t>T-Title (again)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The title ‘ghost child’ now means something almost completely different to u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It now means to us that the speaker was once a ghost child, living with God before this life. Now, She feels forsaken by her Heavenly Father, dreading being a ‘ghost child’ once again.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Chiller"/>
              </a:rPr>
              <a:t>T-Theme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We feel that the theme of the poem was to bring awareness to all the children dying of AIDS, dying from their parents mistakes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It shows the desperation, anger and agony each victim feels inside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6:35:06Z</dcterms:created>
  <dc:creator>Classroom/Lab</dc:creator>
  <dc:description/>
  <dc:language>en-US</dc:language>
  <cp:lastModifiedBy>Classroom/Lab</cp:lastModifiedBy>
  <dcterms:modified xsi:type="dcterms:W3CDTF">2010-11-16T17:13:35Z</dcterms:modified>
  <cp:revision>4</cp:revision>
  <dc:subject/>
  <dc:title>TP-CASTT for ‘ghost child’ </dc:title>
</cp:coreProperties>
</file>